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998-C681-4A4F-A690-8B074A6C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2711-032C-4401-B635-4C46CB9B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BF76-82BD-489A-B2E3-C6C99D02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5CD6-79D9-464C-9AF4-A8934677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7B60-F694-4D41-B16B-94858AEB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3C81-4FCA-4F20-A6BC-CDB06312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0EE9-593D-471D-A0BF-D44F77F6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55A3-30BB-48CB-8D2A-A3DB2DF3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0A4E-6032-4A14-831C-58EF6BDA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1BBA-1E57-46F4-BAA6-CE67A3CE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3A9C-BBB6-4829-835C-28E86D69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9F6B-7FB1-4112-8D58-BA67C8D1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1CC3-DE67-4CD0-A4BB-3ABC181D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A20A-B753-4461-806E-3A13B403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FE2A-B909-4092-9649-7A503C51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99A2-6D2A-4F1D-BCBA-44EA41B4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D149-84CD-487B-8F92-216476F6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9428-FA25-4593-A006-E716514A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8E14-337A-4A42-BDEA-711C31DB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F84-B9BB-4897-8170-2F37F420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264F-79D5-46D5-8A80-31CE11E5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9D0D-A7E8-4B3E-B656-B6A953B7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459-5EA2-4D0D-B042-3041277E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94BA-15C8-465D-A15A-BD16CC3B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1FBB-43BD-4B50-914D-9BB0A0F514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EDFD-47A5-453F-A35C-5F3D080756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496680" y="456840"/>
            <a:ext cx="8229600" cy="58532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Устный журнал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Синичкин праздник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 страница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 ноября –Зиновий или Синичкин праздник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родная мудрость гласит: «невелика птичка- синичка а и то свой праздник помнит»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народном календаре этот день считается днём прилёта птиц-зимников. С этого дня в старину начинали развешивать кормушки для пти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 страниц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иничья стай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иннохвостая синица (ополовник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хлатая синица (гренадёрк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и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ск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м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атая си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иннохвостая синица или ополовник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26877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уроголовая гаичк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30816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сковк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179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 страница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тичья столова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удно птицам живётся зимой: холодно и голодно. Холод ещё не так страшен, страшна зимняя бескормица. Каждая из синиц за день съедает столько насекомых, сколько весит сам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страница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оэтическа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атая сини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найдёшь синицы ярч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м усатый наш гусарч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аль, в болотах он живё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остникам одним поё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иннохвостая синица-ополовн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ленький половнич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лозняке домовнич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м пушист и длиннохвос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мик строил на приро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ме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мез наш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чной пернатый ткачик,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итрый мастер он среди сини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ростниковый пух свой домик спряч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ювом свяжет варежку без спи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 страница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грова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Какая птичка названа за небесно-голубой цве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Кто такая гренадёрка и почему  так назван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Чьи дупла заселяют синичк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Какая синичка сама выдалбливает дупл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Какая из птиц, кочующих с синичьей стайкой, бегает по дереву вниз голово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Какая из птиц, кочующих с синичьей стайкой, прежде чем вселиться в дупло, обмазывает вход – леток, глиной, уменьшая ег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У какого дятла вход в дупло не круглый, а прямоугольны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Назовите синичек, которые могут заготавливать корм впрок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Какую из птиц, кочующую близ синичьей стайки, называют сеятельницей дуб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Какие птицы, кочующие с синичьей стайкой, заготавливают корм впрок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Какую из птиц, кочующих с синичьей стайкой, называют по голосу-писк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. Какая из синичек самая крупная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7-07T22:43:0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